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14C7-0CE8-4F8F-8EC4-0BC9205B64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71C-E427-4030-BEFC-0392A539B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0ED-3D38-4AD3-8619-93E4E36B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0EA-27E3-41B0-8D14-CBC92299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2BA-006C-4381-8C4B-84CAF2BE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42B-7A12-484F-B96A-C4515AD6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43F5-B9E3-4308-8F66-BCBF2F9C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3FE9-35C3-4237-976A-AD61630A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C7B0-1069-43AB-95CC-81760D24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D9D-2388-4F0A-B95E-F33F873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B13-0DB6-415D-B03A-87411B74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B431-D693-4910-8717-9EE9FD3F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2446-FBE2-4B61-A151-7BCFD496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54A-E1CA-4F8C-8791-B7A0E3E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43A3-0D7B-4CBA-B359-F719665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B15A-4CA4-48A9-8FBD-4737881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3ADE-C383-4737-9C0B-90EAB5A0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A28F-7EE0-4876-B4B6-3EF39797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B606-63FC-48D1-9818-38CCD6CF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1A55-0190-4B4B-AC9C-A738A63F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DC14-8D7A-4000-A8A0-6E64516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8549-3138-443A-AAF6-0D9E5BDB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1351-5328-4A7E-BA3E-1FE253C1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0315-48C9-4DB9-A7F4-0778624E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41D-20E5-4359-B621-0659CB2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612E-0835-4CF6-8DD9-A5C6037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9580-7A31-45CE-883C-6E515C1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2CC1-5EF3-4256-B26B-50EAAF4C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999D-2FF3-48AF-A086-B7077B74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2F42-11E9-40FD-9FDC-EE4B81DA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1BD6-80EC-49C9-A2F2-AA29C778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764E-3215-4543-AC4F-1FAF00C5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4E5E-4F30-4CF0-960F-1368AA76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6D3A-3204-4105-9BD5-2836521F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AE60-B9F3-4059-8B23-97943688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29B-E6AB-4B3D-8A2C-FAC90C13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A39C-8AEE-45D1-B8CC-B1745919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85B6-849D-41FA-B49B-A6544E58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27B9-EE0F-44AB-B559-5892500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CDB03-3596-4572-B900-7CCF843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4659-2437-41FA-A81A-9F787E4D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01FD-0122-43F3-94B0-B6B00452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6321-997A-4250-837F-BD101B7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C0ABB-3902-4A07-B557-FA10F37E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CC93-006F-4178-A659-83782DBF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1EFA-229D-49B1-9EB2-2A8F6F8E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C0B-9B11-45ED-B9CF-A563C3A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4C81-E693-46E5-A1A6-6CEA61DD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B2E09-E69C-49F5-B9C5-44C402F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1DA7-8DDF-471A-B6A2-E5867B3E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0188-6E5B-4165-ADF8-6881DB00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FB2F-FF0D-4B54-9D83-DBEF3556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47CE-FB53-4ABC-AB64-583153C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C281-9ED3-47A8-AD6A-A882B881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9F50-6EEC-4F3B-B9B0-6AF2FD1C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2500F-5E53-414B-8DD1-237016D5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7FEC2-82A3-4B36-8A11-A775D435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DF6-3548-426B-A409-DB7F26F6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0DE3-89C2-4F49-8B3D-07B837AA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24E-3CDA-4C96-A0D1-745876F6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660-8986-437B-8CDE-E7E57D46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ABD-28BB-441C-9118-D7EA5BF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EBE-E9DC-4DB4-A71F-4C3DAC0DF49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F7B-9478-45D1-AFA4-53A652AB72F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E969-725D-4517-A7B1-162D63A3083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D896-D6F5-42C0-AB89-329A2E367C0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9846-DEEB-45C1-BE0F-1D030C25A36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53880" y="274680"/>
            <a:ext cx="7863120" cy="1305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28400" y="1500120"/>
            <a:ext cx="785484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авилина В.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Г. Сыктывкар, 2010 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КГПИ, 141 групп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Dodecahedron and Pentagonal Star.jpg"/>
          <p:cNvPicPr/>
          <p:nvPr/>
        </p:nvPicPr>
        <p:blipFill>
          <a:blip r:embed="rId2"/>
          <a:srcRect l="17968" t="6156" r="17968" b="6151"/>
          <a:stretch/>
        </p:blipFill>
        <p:spPr>
          <a:xfrm>
            <a:off x="285840" y="2286000"/>
            <a:ext cx="585792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2" descr="img6.JPG"/>
          <p:cNvPicPr/>
          <p:nvPr/>
        </p:nvPicPr>
        <p:blipFill>
          <a:blip r:embed="rId1"/>
          <a:stretch/>
        </p:blipFill>
        <p:spPr>
          <a:xfrm>
            <a:off x="428760" y="642960"/>
            <a:ext cx="7286400" cy="592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2760" y="811080"/>
            <a:ext cx="7742160" cy="1694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300px-BisectingSegment.png"/>
          <p:cNvPicPr/>
          <p:nvPr/>
        </p:nvPicPr>
        <p:blipFill>
          <a:blip r:embed="rId2"/>
          <a:stretch/>
        </p:blipFill>
        <p:spPr>
          <a:xfrm>
            <a:off x="1928880" y="3286080"/>
            <a:ext cx="4357800" cy="27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" descr="678px-Perpendicular-construction.svg.png"/>
          <p:cNvPicPr/>
          <p:nvPr/>
        </p:nvPicPr>
        <p:blipFill>
          <a:blip r:embed="rId2"/>
          <a:srcRect l="7966" t="14224" r="7966" b="6270"/>
          <a:stretch/>
        </p:blipFill>
        <p:spPr>
          <a:xfrm>
            <a:off x="1643040" y="1785960"/>
            <a:ext cx="542916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73818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33200" y="244440"/>
            <a:ext cx="8791560" cy="648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53160" cy="5261040"/>
          </a:xfrm>
          <a:prstGeom prst="rect">
            <a:avLst/>
          </a:prstGeom>
          <a:ln w="0">
            <a:noFill/>
          </a:ln>
        </p:spPr>
      </p:pic>
      <p:cxnSp>
        <p:nvCxnSpPr>
          <p:cNvPr id="232" name="Прямая со стрелкой 3"/>
          <p:cNvCxnSpPr/>
          <p:nvPr/>
        </p:nvCxnSpPr>
        <p:spPr>
          <a:xfrm flipH="1">
            <a:off x="1428480" y="2714760"/>
            <a:ext cx="357840" cy="1643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3" name="Прямая со стрелкой 5"/>
          <p:cNvCxnSpPr/>
          <p:nvPr/>
        </p:nvCxnSpPr>
        <p:spPr>
          <a:xfrm flipH="1">
            <a:off x="4214520" y="2714760"/>
            <a:ext cx="2160" cy="1715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4" name="Прямая со стрелкой 7"/>
          <p:cNvCxnSpPr/>
          <p:nvPr/>
        </p:nvCxnSpPr>
        <p:spPr>
          <a:xfrm>
            <a:off x="6144120" y="2714760"/>
            <a:ext cx="284400" cy="1643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30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87901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65240" y="139680"/>
            <a:ext cx="8577000" cy="729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804960" y="115920"/>
            <a:ext cx="6870600" cy="77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mso551B0"/>
          <p:cNvPicPr/>
          <p:nvPr/>
        </p:nvPicPr>
        <p:blipFill>
          <a:blip r:embed="rId2">
            <a:lum contrast="30000"/>
          </a:blip>
          <a:srcRect l="30269" t="22158" r="41455" b="66543"/>
          <a:stretch/>
        </p:blipFill>
        <p:spPr>
          <a:xfrm rot="20200800">
            <a:off x="755640" y="1484280"/>
            <a:ext cx="3143160" cy="182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mso551B0"/>
          <p:cNvPicPr/>
          <p:nvPr/>
        </p:nvPicPr>
        <p:blipFill>
          <a:blip r:embed="rId3">
            <a:lum contrast="30000"/>
          </a:blip>
          <a:srcRect l="59908" t="21205" r="10105" b="67223"/>
          <a:stretch/>
        </p:blipFill>
        <p:spPr>
          <a:xfrm rot="881400">
            <a:off x="5403600" y="1413000"/>
            <a:ext cx="3529080" cy="212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mso39F62"/>
          <p:cNvPicPr/>
          <p:nvPr/>
        </p:nvPicPr>
        <p:blipFill>
          <a:blip r:embed="rId4">
            <a:lum contrast="18000"/>
          </a:blip>
          <a:srcRect l="27219" t="2751" r="26482" b="62348"/>
          <a:stretch/>
        </p:blipFill>
        <p:spPr>
          <a:xfrm>
            <a:off x="4929120" y="3714840"/>
            <a:ext cx="2743200" cy="2857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so39F62"/>
          <p:cNvPicPr/>
          <p:nvPr/>
        </p:nvPicPr>
        <p:blipFill>
          <a:blip r:embed="rId5">
            <a:lum contrast="18000"/>
          </a:blip>
          <a:srcRect l="24299" t="43268" r="24605" b="32942"/>
          <a:stretch/>
        </p:blipFill>
        <p:spPr>
          <a:xfrm rot="20504400">
            <a:off x="971280" y="4220640"/>
            <a:ext cx="3029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93560" y="420840"/>
            <a:ext cx="7255080" cy="11588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Image3092.gif"/>
          <p:cNvPicPr/>
          <p:nvPr/>
        </p:nvPicPr>
        <p:blipFill>
          <a:blip r:embed="rId2"/>
          <a:stretch/>
        </p:blipFill>
        <p:spPr>
          <a:xfrm>
            <a:off x="1785960" y="2428920"/>
            <a:ext cx="4876920" cy="3657600"/>
          </a:xfrm>
          <a:prstGeom prst="rect">
            <a:avLst/>
          </a:prstGeom>
          <a:ln w="39960">
            <a:solidFill>
              <a:srgbClr val="000000"/>
            </a:solidFill>
            <a:miter/>
          </a:ln>
        </p:spPr>
      </p:pic>
      <p:sp>
        <p:nvSpPr>
          <p:cNvPr id="245" name="Прямоугольник 4"/>
          <p:cNvSpPr/>
          <p:nvPr/>
        </p:nvSpPr>
        <p:spPr>
          <a:xfrm>
            <a:off x="1000080" y="285840"/>
            <a:ext cx="6215040" cy="142884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еличину угл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2" descr="img4.JPG"/>
          <p:cNvPicPr/>
          <p:nvPr/>
        </p:nvPicPr>
        <p:blipFill>
          <a:blip r:embed="rId1"/>
          <a:stretch/>
        </p:blipFill>
        <p:spPr>
          <a:xfrm>
            <a:off x="857160" y="714240"/>
            <a:ext cx="4762440" cy="12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428760" y="2786040"/>
          <a:ext cx="6095880" cy="25606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а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C =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B =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йти: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а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F =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EG В ТРИ РАЗА БОЛЬШЕ УГЛАGE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йти:  H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а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=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ML =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йти: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8" name="Рисунок 5" descr="Image3095.gif"/>
          <p:cNvPicPr/>
          <p:nvPr/>
        </p:nvPicPr>
        <p:blipFill>
          <a:blip r:embed="rId2"/>
          <a:stretch/>
        </p:blipFill>
        <p:spPr>
          <a:xfrm>
            <a:off x="357120" y="3429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7" descr="Image3095.gif"/>
          <p:cNvPicPr/>
          <p:nvPr/>
        </p:nvPicPr>
        <p:blipFill>
          <a:blip r:embed="rId3"/>
          <a:stretch/>
        </p:blipFill>
        <p:spPr>
          <a:xfrm>
            <a:off x="357120" y="400068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8" descr="Image3095.gif"/>
          <p:cNvPicPr/>
          <p:nvPr/>
        </p:nvPicPr>
        <p:blipFill>
          <a:blip r:embed="rId4"/>
          <a:stretch/>
        </p:blipFill>
        <p:spPr>
          <a:xfrm>
            <a:off x="1214280" y="4572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9" descr="Image3095.gif"/>
          <p:cNvPicPr/>
          <p:nvPr/>
        </p:nvPicPr>
        <p:blipFill>
          <a:blip r:embed="rId5"/>
          <a:stretch/>
        </p:blipFill>
        <p:spPr>
          <a:xfrm>
            <a:off x="2357280" y="3429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0" descr="Image3095.gif"/>
          <p:cNvPicPr/>
          <p:nvPr/>
        </p:nvPicPr>
        <p:blipFill>
          <a:blip r:embed="rId6"/>
          <a:stretch/>
        </p:blipFill>
        <p:spPr>
          <a:xfrm>
            <a:off x="2357280" y="400068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1" descr="Image3095.gif"/>
          <p:cNvPicPr/>
          <p:nvPr/>
        </p:nvPicPr>
        <p:blipFill>
          <a:blip r:embed="rId7"/>
          <a:stretch/>
        </p:blipFill>
        <p:spPr>
          <a:xfrm>
            <a:off x="3286080" y="507204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2" descr="Image3095.gif"/>
          <p:cNvPicPr/>
          <p:nvPr/>
        </p:nvPicPr>
        <p:blipFill>
          <a:blip r:embed="rId8"/>
          <a:stretch/>
        </p:blipFill>
        <p:spPr>
          <a:xfrm>
            <a:off x="4429080" y="3429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3" descr="Image3095.gif"/>
          <p:cNvPicPr/>
          <p:nvPr/>
        </p:nvPicPr>
        <p:blipFill>
          <a:blip r:embed="rId9"/>
          <a:stretch/>
        </p:blipFill>
        <p:spPr>
          <a:xfrm>
            <a:off x="4429080" y="400068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4" descr="Image3095.gif"/>
          <p:cNvPicPr/>
          <p:nvPr/>
        </p:nvPicPr>
        <p:blipFill>
          <a:blip r:embed="rId10"/>
          <a:stretch/>
        </p:blipFill>
        <p:spPr>
          <a:xfrm>
            <a:off x="5286240" y="4572000"/>
            <a:ext cx="162000" cy="14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7:30:31Z</dcterms:created>
  <dc:creator>Пользователь</dc:creator>
  <dc:description/>
  <dc:language>en-US</dc:language>
  <cp:lastModifiedBy>Пользователь</cp:lastModifiedBy>
  <dcterms:modified xsi:type="dcterms:W3CDTF">2010-05-26T04:43:45Z</dcterms:modified>
  <cp:revision>25</cp:revision>
  <dc:subject/>
  <dc:title>Слайд 1</dc:title>
</cp:coreProperties>
</file>